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0E0-29B4-4D8B-A043-641DD537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753-0A71-4777-BDEE-A81BE43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745-44C4-4CB1-817C-CFD7541B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934-5792-4882-BC55-B3ED4B91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0B21-347E-4BF3-8340-24FEDB1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05C-B6B2-4B27-8A97-BB66F7C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FF51-A67F-4146-A436-A9A8C61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A63-9D14-4E37-89E6-1D80889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D79-BB86-47D0-B426-08F600F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AA9-2225-470D-8429-9732CD3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3660-8311-44DE-BBD6-678C944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735-DC5E-4D2E-AA70-7D840C9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B6C-428D-4749-B41E-D82DE12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E6A-1DB9-4DDB-B3DB-5ADD78C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210C-750D-4AB2-BE7C-2770E1E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B9E-F5AD-4A53-8660-CD5DCA49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8FB2-9FFE-475E-9579-88CBC0B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131-C21A-492B-B24C-8F2453A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77F-0CB6-4F73-888C-28B9D46A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6E2-41EC-473D-8FB4-6D00D480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1A6-F1EE-416B-859C-313D3D2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BA5-31DA-4B1B-AEB1-F648778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A1A-1EF6-4646-A328-172138B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DE0-B014-4276-A35A-2BBD0B9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EF6-D4F7-4A44-A1D2-08C6511D1A0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3E4B-05A2-48F2-AA33-2965DBCDCD0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4100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514600"/>
            <a:ext cx="2286000" cy="25909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2666880" cy="4498200"/>
          </a:xfrm>
          <a:prstGeom prst="rect">
            <a:avLst/>
          </a:prstGeom>
          <a:solidFill>
            <a:srgbClr val="9a7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752480"/>
            <a:ext cx="281916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12952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13372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0"/>
            <a:ext cx="259056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14600"/>
            <a:ext cx="243864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82880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190512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The October Manifesto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mise of freedom of speech, right to form political partie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blish a Du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 new laws without consent of the Du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roken Prom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oting system was unfair rich had more influence than the po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ma had little influence over the Tsar and new law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st two Dumas were dismissed for demanding reform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urther changes introduced to excluded socia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id the Revolution fail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apan released prisoners to aid the Ts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st of the armed forces stayed loyal to the Ts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ctober Manifesto divided the oppos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workers strikes and the peasants uprisings were not co-ordin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lear leader for the oppos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ssia 1906 - 1914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e Rule of Stolypi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im of stabili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. Repress the revolutionari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. Introduce reforms to improve living condi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911 - Stolypin assassin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sults of Stolypin’s a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. Great reduction in activities of the revolutionar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. Richer peasants (Kulaks) now run farms for prof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. Kulaks now loyal to Ts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4. Cities have more f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5. Conditions for some workers improve though many remain discontented. 1912/14 many strik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6. Revolutionaries like Lenin learn to adopt new more tactic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8:33:13Z</dcterms:created>
  <dc:creator>Osborne</dc:creator>
  <dc:description/>
  <dc:language>en-US</dc:language>
  <cp:lastModifiedBy>Christopher Wright</cp:lastModifiedBy>
  <dcterms:modified xsi:type="dcterms:W3CDTF">2007-09-03T11:51:20Z</dcterms:modified>
  <cp:revision>3</cp:revision>
  <dc:subject/>
  <dc:title>The 1905 revolution</dc:title>
</cp:coreProperties>
</file>